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74A6-DA93-4753-9805-88335809A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FB0D-401D-46BB-B04B-8CCFA9B89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5D47-D327-4F22-823D-FFD13143E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87C0-CD7D-4CBB-AF36-CCF2DE875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65EB-AE10-4C41-9116-A038C955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F1D8E-D432-464D-9A87-5A2FD7742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5420-B6AB-4980-AA70-9A5EF3D21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AC9A-0EC9-4000-B095-A7DBE7D37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9E72-D80B-4D65-BBA8-85BA96771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AAF2-C753-49A7-A2B5-C28D54EC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6A352-3BFB-4F70-8049-FC73CEC08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A43B-9D1D-4512-9F36-5C75598EE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E75D-B727-4999-BC64-453098C8E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green247.com/agreen/jpg/penicillin.jpg&amp;imgrefurl=http://blogs.houstonpress.com/houstoned/2006/11/peter_gallagher_and_his_eyebro.php&amp;h=403&amp;w=400&amp;sz=29&amp;hl=en&amp;start=29&amp;sig2=VMR-YKZpUkFMxYWbkZhZmw&amp;tbnid=HyDIoV55BKuOUM:&amp;tbnh=124&amp;tbnw=123&amp;ei=ua_qRvDOOIfIgAOq8dTDBQ&amp;prev=/images%3Fq%3DFleming%2Band%2BPenicillin%26start%3D20%26gbv%3D2%26ndsp%3D20%26svnum%3D10%26hl%3Den%26sa%3DN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МОДЕРНА МЕДИЦ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оф. Драгана Игњатови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ћ Ристи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психијат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Систематски метод ра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Специјализације, усаврашавање у посебним област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Шира примена експеримента, статистичких метода и слич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Развој великих болниц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Раније су у болницам били само сиромашни, а богати су ексклузивно лечени у кућ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Увођењем лабораторијске, ултразвучне, рентгенске, компјутеризоване дијагностике и развојем хирургије, све се мењ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Није довољна инспекција, аукултација, перкусија и палпација- некад је лекар и знања и прибор носио у својој торб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Данас су за то потребне бројне собе и велике згра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Социјалне проме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Индсутријализација, аграрне земље постају индустријске, расту градов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Расте укупна број становника, продужава се животни век, мења се старосна структура становниш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Уводи се социјално и здравствено осигур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Резим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Модерно доба се може звати добом социјалне револуције, природних наука и технологије, а у медицини раздобљем увођења и напретка нових технологија, специјализације и социјализације медици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Данас, медицине је раскрсница на којој се укрштају чиста наука, хуманизам, економија и социологиј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Све до Virhofa и формирања прве лаборaторије у Пруској, дијагноза се постављалa по болји и облoжености језика, по сувоћи коже, по мирису око бoлесника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Лекари су се обавијали тајaнственошћу и она их је делила од пацијенатa. Овакaва улога се настaвљалa и одржавалa од племенског врача који је лечио својом мистичношћу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Све до краја XIX века, медицина је била немоћна пред током тешких болести које су безусловно водиле у смрт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Лекар је могао да помогне замореном срцу, да смири кашаљ, ослакша искашлјавање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И лекари су сами били свесни неефикасности у лечењу и своје немоћ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Тек између 1830. и 1935. године, медицина је успела да обузда неке тешке болести (дифтерија, дијабет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После открића SULFONAMIDA (1935) настаје период открића нових антибиотика и успеси у борби против бол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Некад и с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Некадашња медицина је била неефикасна и јефтина. Није била никаква ставка у буџету држав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Некада се лекови нису користили, већ се лечило пуштањем крви болесника, коришћењем средстава за чишћење организма), тако да је лечење било бесплат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Лекови су били углавном биљног порекла (чајеви, напици, одварц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484360" y="1916280"/>
            <a:ext cx="4175280" cy="34257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RS" sz="4000" spc="-1" strike="noStrike">
                <a:solidFill>
                  <a:srgbClr val="000000"/>
                </a:solidFill>
                <a:latin typeface="Arial"/>
              </a:rPr>
              <a:t>Ултразвук 20 недеља старог фетус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Некад и са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Савремени лекови (антибиотици, хормони) су далеко скупљ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Савремени дијагностички апарати, хируршке методе, нови лекови поскупљују рад у здрав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Модерна медиц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Период прве половине XIX века до дана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Политички либерализ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Напредак физике, хемије, биолог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Напредак у савременим технологијам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Напредак у медиц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Велика достигнућа у области АНАТОМИЈ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Georges Cuvier, француски природњак, је 1801.г.основао компаративну анатом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Wihelm His, старији, професор у Базелу и Лајпцигу, је проучавао грaђу неrвног системa, пoстaнaк кrвi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Сматрaјu гa нaјвећим eмбриологoм XIX 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Wihlelm His, млађи је 1839.г.открио Хисов сно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amillo Golgi, професор у Павији, је 1880.г.открио мултиполарне ганглијске ћелије (Goldžijeve ćelij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Paul Fleshing je 1876.г.открио пирамидалне путе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Rudolof Virchow je оснивач патохистологије и целуларне теорије боле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Болест је болесна ћелија”- закочио развој медици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Развој хигијене и социјалне медицине- само благостање, просвећива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 и политичке слободе могу довести до побољшања здравствених прил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Физиолог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Francois Magendie, творац експерименталне физиологије, 1822.г. је објавио откриће да су предњи спинални коренови моторни, а задњи- сензор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До открића је истовремено дошао и Шкoнтланђанин Charles Bell, па се и зов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Бел-Мажендијeв зн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Šarl Riše je 1913.г.открио АНАФИЛАКСИЈУ и добио Нобелову награ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Ипак, први опис алергијске преосетљивости је описао Хипократ- копривњача на извесне врсте хране, кијавица на мирис ружиног ц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Ivan Perovič Pavlov je 1904.г.за откриће условних рефлекса добио Нобелову награ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Микробиологија и имунолог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Luis Pasteur, француски хемичар, направио више епохалних открића у области бактериологије, отворио потпуно ново раздобље у развоју медицин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1857.г.доказао да је микроорганизам узрок кишељења вина и извршио уништавање тог микроорганизма кувањем (на температури до 5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º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Ц- ПАСТЕРИЗАЦИЈА). На тај начин спасио је индустрију вина у Француско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Разрешио и болест свилених бу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Pa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Главна заслуга Pastera je откриће вакцине против беснила која је први пут примењена на дечаку Josipu Meisteru, 6.јула 1885.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у Елзас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1877.г.публиковао радове о истраживању антрак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Откриће стрептокока и стафилокока (1880) као узрочника гнојења рaнa, пуерперaлне сепсе и шaрлaх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Robert Ko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Rober Koch, срески лекар у Немачкој, који је за рођендан од супруге добио микроскоп- почео проучавање чудесног, невидљивог света микроорганиз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Култивисање бактерија на вештачкој подлози, метод размаза на стаклу и бојење препара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Открио бацил туберкулозе (1882), споре анатракса (1876), вибрион колере (1883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Добитник је Нобелове награде 1905.год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Alexandar Fle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Енглески бактериолог, гајећи бактерије 1928.г.у лабораторији у болници “Света Марија” у Лондону, открио културу гљивица усред културе бактерија и око ње створен прстен без бактери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Правилно протумачио оно што је видео и објавио резултате 1929.г. Они нису били запаж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400" spc="-1" strike="noStrike">
                <a:solidFill>
                  <a:srgbClr val="000000"/>
                </a:solidFill>
                <a:latin typeface="Arial"/>
              </a:rPr>
              <a:t>Тек 1940.г.професори са Oxforda, Florey i Chain су рективирали ово значајно откриће и изоловали чист пенiцiлiн. Заједно са Flemingom добили су Нобелову награду 1945.год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800600" cy="685800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Alexander Fleming"/>
          <p:cNvPicPr/>
          <p:nvPr/>
        </p:nvPicPr>
        <p:blipFill>
          <a:blip r:embed="rId3"/>
          <a:stretch/>
        </p:blipFill>
        <p:spPr>
          <a:xfrm>
            <a:off x="4114800" y="0"/>
            <a:ext cx="5029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Модерна медиц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Бернард: 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ескрајно дуго детињство, које је трајало неколико хиљада година...и за мање од 100 година из детињства прешла у своје зрело доба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Albert Neisser je 1879.г.открио узрочник гонoре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Karl Eberth je 1880.г.открио узрочник леп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dwin Klebs и Fiedrich Lofler су 1883/1884.г.открили узрочник дифтер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Ronald Ros je 1898.г.доказао да се маларија преноси преко малaричног комaрц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иничка и практична медици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Несумљиво, достигле неслућене вис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Утицај Шопенхауреове песимистичке филозофије на схватање да се пацијенту не може помоћи имао је далекосежне послед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Скоро да су лекари радили на клиникама само да би на обдукцијама видели шта још не знају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Развој патолошке анатомије и физиологије, а једне стране и поражавајући резултати на обдукцијама, довели су до у центар пажње настојање лекара да за живота болесника сазнају што више о променама у болести и тако усаврше дијагностику и лечењ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Ignatz Phillip Semmelwe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1847.г.растумачио узрок пуерпералне сепс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Рођен је у Пешти, са 23 године, 1846.г.је постао асистент на акушерској клиници у Бечу. У то време, у Бечу су биле две акушерске клинике- за лекаре и бабице. Смртност у клиници за лекаре је била 10%, а оној д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гој- 4%. Професори су имали своје објашњенје за т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Semmelwe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На једној обдукцији породиље која је умрла од пуерпералне сепсе, Semelvajsov пријатељ се посекао, разболео и умро. На његовој обдукцији, приметио је исте промене каo и код порoдиље. Заклјучио је трулеж из лешева можe прећи у рану здравог човека и заразити г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Како хлорални креч уништавa задaх трулежи, одредио је да се руке обавезно перу у хлораном кречу пре преглeда и забранио да студенти долазе на акушерску клинику непосредно после обдукциј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Semmelwe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Ово је публиковао Ferdinand von Hebra 1847.g. Семелвајс је свој рад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бразложио 15.маја 1850.г. а у октобру исте године, избачен је са акушерске клиник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Наставио је да се бори за прихватање својих достигнућа, али је 1865.г.смештен у лудницу где ј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те године умр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Сличну судбину доживео је 5 година пре њега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мериканац Holmes (“Прилепчивост бабиње грознице”)- изруган и заборавље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Henry Duna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После битке код Солферина, 1862. развио идеју о стварању Црвеног кр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Добитник је Нобелове награде, живео и умро у сиротиш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Joseph Lis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1867.г.открива антисепс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Учење Пастера да актери труљења улазе из ваздуха у рану током и после операције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Инструменте почео да ставља у карбони раствор, а ране превијао завојима натопљеним у карбол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Публиковао 1867.г. и брзо је био прихваћен у свет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ХИРУРГ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Хирургија доживљава нарочит напредак у другој половини XIX века, са проналаском анестезије и антисепс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Развилa се aбдоминaлна хирургија коју је посебно унапредио Theodor Billro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Почињу да се развијају и друге гране хирургије- ортопедија, уролог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ХИРУРГ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Први хирург који је оперисао у анестезији етром 16.10.1846.г. био је John Collin Warren. Томе је претходио врло дуг и тежак пут, са жртва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Hickmanov предлог да азотоксидул примени на људима одбијен од стране француске академије као бесмислен, a Hickmen je од туге умр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И 10 година после, француски хирург Velpaou је то назвао бесмислиц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Развој природних на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Michael Faraday је 1831.г. открио индукциону струју, 1834.г. утврдио законе електрицитета и поставио теорију ј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Julius Robert Mayer- зако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о неуништивости материје, али је откриће признато другом научнику (Jou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Charles Darvin je 1859.г.издао фундаментално дело о пореклу врс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Зубар Horace Wells je ту методу први пут применио у Бостону 1841.г. Своје повољно сазнање је публиковао, али је доживео катастрофалан неуспе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Ипак, хирург Long je први извршио операцију у наркози. Džekson je вршио огледе са етром и препоручио га за примену у зубарству бостонскoм зубару, Morton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orton je извршио прву службену демонстрацију анес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ије етром, a Warren je био први хирург који је оперисао у нарко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Висока цена открић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Vels je извршио самоубиство што су му други отели славу, Džekosn 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полудео, Morton j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умро у бед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Исти онај француски хирург Velpo je сада прихватио анестезиј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Иако је хлороформ открио 1836.г. Bell у Лондону, рачуна се да је Американ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, Simpson први употребио хлороформ за анестезиј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1848.г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игде у свету није било прихватљиво то што се мушкарац бави гинекологиј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Оротпед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Гипсани завиј се уводи 1854.г.након што га је открио Anthony Mathijes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Након тога, убрзано се развија ортопедија, а у XX веку се трaумaтологијa oдвајa кaо посебна субдисциплин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Уролог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Проналсаком цистоскопа, 1877.г. од стране немачког лекара Max Nitzea, нагло се развија урологиј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Gustav Simon 1869.г.први пут екстирпира бубр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nrico Bottoni 1890.г.први пут оперише увећану простат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Офталмологија, ОР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Himli, гетингенски професор, 1801.г.први уводи назив офталмологиј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Weber и Rinne уводе тестове за испитивање слуха, а 1856.г. Anton Troeltsch проналази отоскo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Неуролог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Као медицинска дисциплина, настаје одвајањем од интерне медиц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rb- 1868.г.електрореакције у неуролошку дијагности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Hans Berger je 1929.г.први увео електроенцeфалографиј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Психијатр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mil Krepelin je 1901.г.направио прву модерну класификацију менталних болести- demencija precox и манијакално депресивна псих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Eugen Bleuler je 1911.г.назаво сцхизофренију тим имено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Психијатриј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Wagner-Jauregg je 1918.г.увео маларију у терапију прогресивне парали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Meduna 1934.г.је почео лечење схизофреније кардиазолским шоков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Исте годинe, Sokel, уводи лечење инсулинским 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ков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Bini и Cerleti, 1938.г.уводе електрошокове у терапију у психијатр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1893.г.почиње да објављ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е своје радове Sigmund Frojd- револуција у науц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Развој терапије у модерно доб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У XX веку- хипнотици, кардијаци, новокаин, живини диуретици, хормонска терапија (инсулин) и бројни витам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Салицилна киселина и серум против дифтер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Данас- ГЕНЕТИКА, ГЕНЕТИКА, ГЕНЕТИКА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звој природних нау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Gregor Mendel, опат из Barna, je 1865.г.утврдио законе наслеђивањ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Dimitrij Ivanovič Mendeljejev je 1869.г.открио периодични систем хемијских елемен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943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hallenges for the Fu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4400" spc="-1" strike="noStrike">
                <a:solidFill>
                  <a:srgbClr val="000000"/>
                </a:solidFill>
                <a:latin typeface="Arial"/>
              </a:rPr>
              <a:t>Изазови за будућнос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esity/Diabetes Melli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eriatric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gs/Med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zheimer’s  Dis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re/Medic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uthan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Будућност медици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5000" spc="-1" strike="noStrike">
                <a:solidFill>
                  <a:srgbClr val="000000"/>
                </a:solidFill>
                <a:latin typeface="Arial"/>
              </a:rPr>
              <a:t>Баланс измећу медицине и науке/технологије који ће се постићи ако будемо користили машту и имали </a:t>
            </a:r>
            <a:r>
              <a:rPr b="0" i="1" lang="sr-Latn-RS" sz="5000" spc="-1" strike="noStrike">
                <a:solidFill>
                  <a:srgbClr val="000000"/>
                </a:solidFill>
                <a:latin typeface="Arial"/>
              </a:rPr>
              <a:t>мало </a:t>
            </a:r>
            <a:r>
              <a:rPr b="0" lang="sr-Latn-RS" sz="5000" spc="-1" strike="noStrike">
                <a:solidFill>
                  <a:srgbClr val="000000"/>
                </a:solidFill>
                <a:latin typeface="Arial"/>
              </a:rPr>
              <a:t>среће</a:t>
            </a:r>
            <a:r>
              <a:rPr b="0" lang="en-US" sz="5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Green%20Sand_800x6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Pitanj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4" descr="1749858-m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willgadd"/>
          <p:cNvPicPr/>
          <p:nvPr/>
        </p:nvPicPr>
        <p:blipFill>
          <a:blip r:embed="rId1"/>
          <a:stretch/>
        </p:blipFill>
        <p:spPr>
          <a:xfrm>
            <a:off x="0" y="0"/>
            <a:ext cx="9144000" cy="71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Развој медици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После француске буржоаске револуције, од пробраног наставног особља укинутих универзитетских установа, основана су три нова медицинска факултета- Париз, Монпеље, Стразбу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800" spc="-1" strike="noStrike">
                <a:solidFill>
                  <a:srgbClr val="000000"/>
                </a:solidFill>
                <a:latin typeface="Arial"/>
              </a:rPr>
              <a:t>Највећа новост је оснивање катедри- интернистичке и хируршке, затим за акушерство, судску медицину и историју медиц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400" spc="-1" strike="noStrike">
                <a:solidFill>
                  <a:srgbClr val="000000"/>
                </a:solidFill>
                <a:latin typeface="Arial"/>
              </a:rPr>
              <a:t>Развој медици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Студенти су почели да уче медицину на пацијентима, а не само по књигама у библиотека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Оснивале су се нове, велике болнице и клини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Лекари мењају дотадашњи начин ра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Од посматрања болесника, прелазе на испитивање болес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Развој физикалних метода прегле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Развој лабораторијских испитивања, хистолошких, физиолошких, фармаколошк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Развој модерне терап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4000" spc="-1" strike="noStrike">
                <a:solidFill>
                  <a:srgbClr val="000000"/>
                </a:solidFill>
                <a:latin typeface="Arial"/>
              </a:rPr>
              <a:t>Најбитиније карактеристике модерне медици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Систематски метод р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Развој великих болни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3200" spc="-1" strike="noStrike">
                <a:solidFill>
                  <a:srgbClr val="000000"/>
                </a:solidFill>
                <a:latin typeface="Arial"/>
              </a:rPr>
              <a:t>Социјалне проме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7T16:52:41Z</dcterms:created>
  <dc:creator>MEDF</dc:creator>
  <dc:description/>
  <dc:language>en-US</dc:language>
  <cp:lastModifiedBy>MEDF</cp:lastModifiedBy>
  <dcterms:modified xsi:type="dcterms:W3CDTF">2011-03-16T20:14:08Z</dcterms:modified>
  <cp:revision>37</cp:revision>
  <dc:subject/>
  <dc:title>MODERNA MEDICINA</dc:title>
</cp:coreProperties>
</file>